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D0F3-3413-4859-84C8-2749C477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8A27-6935-4E88-B3D3-F2677735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C965-9478-4788-9DEB-7A18E3C5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3744-73C1-4FA4-90B6-5047EB0B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C03C-B257-48D7-AEBE-97BA42E3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9C05-3CB6-4109-A884-20181894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7879-C6A6-4974-9DDD-C78BB78F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FF33-F13E-4F76-A414-6627E8DC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2219-3FDF-4B06-9B1F-F9B2A668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8A71-45C8-4A26-B9EB-05B1A405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ACFB-EFF8-486E-B30C-40721996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C0CD-77C5-4364-B8C4-4F552219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11AF-38FA-41E8-92D0-CDDBEB99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995E-D3E6-4B60-BE97-0349B7C3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56B2-A7FB-4C54-8467-D5C08612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F5E9-E802-4504-9277-D4646CC5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3CA2-BC45-42FC-B352-D2FF171B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95D3-788A-4CA5-8873-06D20EF1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45ED-3594-4802-B205-6569101F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FD5A-1CFF-4EFF-9133-4132A5B9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F756-D7AB-440F-AF98-5E163AC2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131E-6070-4670-8B59-79411FDD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8B09-7B7A-4F9B-B9D8-F2A56E3E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4712-A8DF-4F66-941E-EB860C57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B112-7DC7-404B-AED4-AA927F032A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212B-DBF8-4DB0-A6B2-FF8E9B5827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hompchomp.com/terms/subordinateclause.ht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rammar bla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ordinate 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es not express a complete thought and cannot stand alone as a sentence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www.chompchomp.com/terms/subordinateclause.ht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e comma rul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subordinate clause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rst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llows the last word in the cl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thods of develop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ative langu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ove is like a rose in summer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s/readings/experienc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tions/ other me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ove is a four letter word which has the power to change lives, according to Dr. Phil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ymology (history and use of the wor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ncients believed love came from the he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 and contr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ve may be beautiful, but it can also be painful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ve is only one of several emotions we don’t entirely understand scientifical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ctionary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ve is defined as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s and effects of the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ffect of love on teenagers is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1980720"/>
            <a:ext cx="236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hetorical tri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38052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rpo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does the author want the audi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think or do after seeing or hearing this piece of writi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the situation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go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around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 and/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udienc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629400" y="5257800"/>
            <a:ext cx="220968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whom is this piece of writing addressed?  What bias does this person or group hav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85800" y="5181480"/>
            <a:ext cx="2590920" cy="11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 is the writer or speaker? What opinion does this person hav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828800" y="1219320"/>
            <a:ext cx="5410080" cy="39621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ryl needs to convince her mother of the need for the family to have a cell phone.  Cheryl,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the auth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s of the opinion that the cell phone is a necessity.  Her goal, or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s to talk her mother into purchasing the phone.  Her mother,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the aud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has resisted purchasing for two years but needs to be educated on the low cost, convenience, and usefulness of the phone in emergencies.  The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ontex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culture in which cell phones have become the nor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733560" y="380520"/>
            <a:ext cx="198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2209680" y="1219320"/>
            <a:ext cx="4648320" cy="46479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809880" y="3962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781680" y="5867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14300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icket out the do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ummary of our lesson using a subordinate cl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definition prompts and decide on context, audience, and purp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hetori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hetor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3240000"/>
            <a:ext cx="7783560" cy="10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rt of writing and speaking effective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 options for organizing your rhetor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/cont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mpl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sent what the term is vs. what it isn’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838080" y="457200"/>
            <a:ext cx="73915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/contra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assification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vote each body paragraph to subdivisions of the term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 example, an essay on love could be devoted to platonic, religious, romantic, and familial love as long as the ideas support the thesi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arr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the focal point of the essay to be a story in support of the thesis but be sure to include several other strate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emplification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example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 the extended definition by observations, experiences and media support (quotations, movies, readings, and TV show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23:32:45Z</dcterms:created>
  <dc:creator>Pat Caskie</dc:creator>
  <dc:description/>
  <dc:language>en-US</dc:language>
  <cp:lastModifiedBy>adamscp</cp:lastModifiedBy>
  <dcterms:modified xsi:type="dcterms:W3CDTF">2008-01-31T15:59:01Z</dcterms:modified>
  <cp:revision>9</cp:revision>
  <dc:subject/>
  <dc:title>What is rhetoric?</dc:title>
</cp:coreProperties>
</file>